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A25-20D9-4CD6-8E33-9E087A4F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7E5-F475-442C-9210-46F9623F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1145-740C-469C-8C65-CCDE260C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52F-A7BE-4841-BDFC-DCA5A6D6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9E84-90F1-4D52-8DD2-FD7DF3C9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03CB-3FE0-49A1-8A42-E7C398C1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0DC6-144A-41E2-9EF7-2282F499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8767-6CFD-468E-8958-AA69C669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CAC1-45A8-4D8E-B5A9-B472EE0B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86D8-B274-4F3D-BAA0-3E4F7440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93F2-7994-473E-86F5-3DF2F51F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AEC-9C2B-4760-9FBB-58E975DD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15CF-CC07-4BD5-95A9-C588F254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FD03-D703-435B-A601-BE524D8F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94C4-9FF3-415A-967F-F980A166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859B-16C3-47FD-B569-BF749299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3A9C-86A6-438B-A7C5-277D882C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AAC1B-814A-4A9D-A56F-02373C6A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70EE0-57D6-4426-B90B-E120C64B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4FF37-3085-41DA-AD5E-512B9A62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B3FAA-CE17-4791-ADDD-364711DE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15FB1-26FC-4294-9F21-D40D08E6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1C8D-CABC-4B50-9608-03381910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18403-F7D4-4D4F-8FC8-42710A2B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2D1FE-5CFA-4CDF-9AD3-C83C0D7C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C7580-7B29-4E2F-BBDB-47FE5F59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E1982-6125-4647-A940-EC724F8D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14845-2CE1-4B01-AAAD-6A0CA132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CC040-2524-4AC1-BDDE-CF8CE787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2B2BB-B625-45FE-BF4B-6A877105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7E05D-9096-4715-9A3A-D423C90D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0210D-719F-4F21-B020-F4D1C076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51E04-2C47-4B5A-A9CD-A1255845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639-ECEE-422C-A1C3-FE7C7EAB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DB85D-89DC-4F9A-91A0-FBF10BD6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48CF0-6B77-44C0-A2DE-4BC3C6DF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623DE-814F-4E9D-920F-43D74E03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80DC8-D395-4962-A71B-9B7FD9CB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B1C05-5956-4EA5-B28C-2D3044B9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5F298-EF66-4495-86BE-D3FF3340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C8289-42F6-4214-B6D7-5615EBA4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8974E-73C8-4F48-B2ED-CD0B6C5A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2FF51-0C73-4780-AFAE-FB58ACE2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57B1-2929-4A9F-8580-4696A946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480-4961-4D8E-AE05-00E40E76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3AD-7977-4351-838E-0E726F00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740F-A226-40A4-9C32-1DD8413F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DD2C-811D-46FF-975E-EAB8B079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C153-85D5-4A9C-AAA2-707AD34A9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5B47-9B31-4542-A6E1-626223B01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1608-FA8E-4934-B706-D233F070A7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C250-8C2A-43F7-98CF-02151FA390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arking the Tex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a claim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ment(s) argued or stated by the auth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aim can be found anywhere in the art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aim may not be directly written in the art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do I write in the Margins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sual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non-linguistic representa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describe what author i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o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arif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define key terms, paraphrase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nec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how does it relate to me or worl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spon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to ideas, arguments, claims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what is author saying?, what do I understand, what is purpose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rt the Tex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what author is saying/do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Use a piece of blank paper to create your own “Piece of the Pie” foldable.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28600" y="1066680"/>
          <a:ext cx="8686800" cy="5486400"/>
        </p:xfrm>
        <a:graphic>
          <a:graphicData uri="http://schemas.openxmlformats.org/drawingml/2006/table">
            <a:tbl>
              <a:tblPr/>
              <a:tblGrid>
                <a:gridCol w="4352400"/>
                <a:gridCol w="4334400"/>
              </a:tblGrid>
              <a:tr h="280368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Preread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What is Marking the Text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268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Numbering Paragraph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What do ICircle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3124080" y="2514600"/>
            <a:ext cx="2895840" cy="2286000"/>
          </a:xfrm>
          <a:prstGeom prst="diamond">
            <a:avLst/>
          </a:prstGeom>
          <a:solidFill>
            <a:srgbClr val="cc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24240" y="3203280"/>
            <a:ext cx="4038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Marking th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Tex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Use a piece of blank paper to create your own “Piece of the Pie” foldable.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28600" y="1066680"/>
          <a:ext cx="8686800" cy="5486400"/>
        </p:xfrm>
        <a:graphic>
          <a:graphicData uri="http://schemas.openxmlformats.org/drawingml/2006/table">
            <a:tbl>
              <a:tblPr/>
              <a:tblGrid>
                <a:gridCol w="4352400"/>
                <a:gridCol w="4334400"/>
              </a:tblGrid>
              <a:tr h="280368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What are Key Terms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What do I Underline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268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What are Claims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Margin Mar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3124080" y="2514600"/>
            <a:ext cx="2895840" cy="2286000"/>
          </a:xfrm>
          <a:prstGeom prst="diamond">
            <a:avLst/>
          </a:prstGeom>
          <a:solidFill>
            <a:srgbClr val="cc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14600" y="2895480"/>
            <a:ext cx="403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Summar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Marking the Tex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ctive reading strategy that asks students to identify information in the text that is relevant (relates to) the reading purp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3 distinct ma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Numbering Para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Underli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Circ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PE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read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 the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Pred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unknown vocabulary with squiggly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author’s background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umbering Paragraph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reading, # each para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# small &amp; near the paragraph indentation &amp; circle the #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do I Circl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 of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 of Pl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are Key Term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s or phrases that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epe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used in a unique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efined by the auth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entral idea 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used to explain or represent an i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relevant to the reading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do I Underlin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line information that is relevant (relates to the topic) to the reading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s: evidence, definitions, explanations, descriptions, data/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ms you are going to (or could) use for quotes in your own wr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line an author’s clai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3:47:02Z</dcterms:created>
  <dc:creator>teacher</dc:creator>
  <dc:description/>
  <dc:language>en-US</dc:language>
  <cp:lastModifiedBy>Nvasquez</cp:lastModifiedBy>
  <dcterms:modified xsi:type="dcterms:W3CDTF">2010-02-18T15:43:55Z</dcterms:modified>
  <cp:revision>27</cp:revision>
  <dc:subject/>
  <dc:title>Marking the Text</dc:title>
</cp:coreProperties>
</file>